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6ABA1-4126-40F3-98BB-2C9736590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41C0-3363-4060-820A-4799619DC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FD918-7C16-41DE-86EA-02CE70915D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99C2D-4795-4BA0-AAD6-A122433CC2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CAB1E-F5B6-4A9B-B4B0-C2F9EB3D55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DA737-28A4-4CA7-B5F0-37FC8BA7E4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D90F1-8A31-4C7E-A067-4569C3743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5F4E2-4B2C-4957-B789-35B62C8F59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609EB-10CF-4EA4-9586-638DAA271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6FA46-2E9A-4293-ADB3-FD9C8BA135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6CFF-E053-4586-B0E7-50771E24EF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A7A57-F2AF-49F0-8275-F93AEB5135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543880" y="6242040"/>
            <a:ext cx="600120" cy="615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81280" y="6597720"/>
            <a:ext cx="510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DSI Technical Conference 2007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acramento, CA  USA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ctober 18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248520"/>
            <a:ext cx="68580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477120" y="6324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n t e l l i g e n t  T o o l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4e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8534160" y="579096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44A5-57CF-4517-85A5-19586500EBB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7.png"/><Relationship Id="rId14" Type="http://schemas.openxmlformats.org/officeDocument/2006/relationships/image" Target="../media/image9.png"/><Relationship Id="rId15" Type="http://schemas.openxmlformats.org/officeDocument/2006/relationships/image" Target="../media/image18.png"/><Relationship Id="rId16" Type="http://schemas.openxmlformats.org/officeDocument/2006/relationships/image" Target="../media/image13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386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Presen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Miguel Esc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ergetic Data Systems, Inc.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400480"/>
            <a:ext cx="8534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859"/>
                </a:solidFill>
                <a:latin typeface="Arial"/>
              </a:rPr>
              <a:t>Sess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09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00D9-F1D3-4706-9EDA-577D666C21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24480" cy="284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2BFE3-3A5C-42BD-A960-12C892F8E3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4057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FADB-7F0B-4954-9454-3B21D3A4BE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8028000" cy="319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67B7E-37D5-4724-A38C-A2702FE8A9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14400" y="1257480"/>
            <a:ext cx="800892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84399-0698-4802-B1FC-AA1E59B4A6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7027920" cy="215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A6A5B-01BF-43EB-9349-33F0F80EC5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eliv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(s)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subjob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“properties”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email and fax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7A31-D76A-4675-965C-9031C5F74C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0D144-6868-4191-96C9-669E35ECF9D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Methods:  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copy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B23B9-BABB-46E5-A82F-1892F99F4D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fixed lo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delimited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v textfile look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C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0F345-301B-4336-B0A8-12C20B2724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265BC-0C4F-41D0-A344-ACC708B7E1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Outl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componen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emplatize rule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x feat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87077-235D-469F-B530-20954C9946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3506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6C6F7-EDA7-487A-88C5-D5B092EC33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/ Doc I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2520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F4111-0C5A-43D9-83F9-C348B4EAA3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000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FD593-3DB1-499A-AF9C-D7BC638E10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pecif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4344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5D427-8E43-4BCD-BC65-1B36173A8D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185840"/>
            <a:ext cx="7772400" cy="4484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F373E-FDFA-4CAF-AB8E-CB489FA420D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Overrid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86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6FA3C-EBBA-491D-9D21-B17A005FA7E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14400" y="1324080"/>
            <a:ext cx="5581800" cy="4209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B9021-A8C7-4006-8F2F-406D13AF12D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581800" cy="2695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93C12-BA9B-4757-B2F7-6103A0BC895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14400" y="1185840"/>
            <a:ext cx="5572080" cy="44863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AB647-14B8-4C56-B9C8-7264D9479B8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3867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9F3B5-E8A9-4C8B-98F0-32731D388CD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8BF27-38B3-4E2B-806C-3DB7D6ECFD1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38880" cy="513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7B8C1-BD7A-4355-8DF7-A1E183DC23F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3403440"/>
            <a:ext cx="7543800" cy="2759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8904D-0A62-489D-8D89-DCA2CF70397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3645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14400" y="1219320"/>
            <a:ext cx="518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DE426-5833-45A9-AB96-A38CA815BAC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580160" cy="2438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9280" y="1981080"/>
            <a:ext cx="7510320" cy="4224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1B052-014C-46C1-A6D7-B5CD25FE2D6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857840" cy="4467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BCB30-2386-446F-BDA7-C12374E1123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eliver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ahun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55 lines of codeblock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delivery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/ fax / la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taneously for same do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templates swap in/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address retrieval method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sence” of eDelivery only 1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2133720"/>
            <a:ext cx="2819520" cy="2228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decfc0"/>
                </a:solidFill>
                <a:latin typeface="Arial"/>
              </a:rPr>
              <a:t>INDEPENDE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TAIN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838080"/>
            <a:ext cx="365760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CBFC3-CA6E-499C-A9DE-D5FBB251E1F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467160" cy="5238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86400" y="15238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tha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K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BA934-E0D6-4357-B404-130E9EBCE2E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62440" cy="4733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400800" y="1219320"/>
            <a:ext cx="2286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tor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B34EA-A504-48E0-B9A3-5E46800EEE4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48240" cy="5343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400800" y="1219320"/>
            <a:ext cx="2286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exec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delive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clos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73D6A-147B-4D37-8F16-E7E7954F56C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3429000"/>
            <a:ext cx="3352680" cy="228744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of Se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CAA8-4F6A-4FC9-99F2-9DE3FC1EC70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724280" y="152280"/>
            <a:ext cx="91440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3809880" y="152280"/>
            <a:ext cx="828720" cy="514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57600" y="38088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3809880" y="3352680"/>
            <a:ext cx="129564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5760" y="343080"/>
            <a:ext cx="0" cy="110484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800280" y="4933800"/>
            <a:ext cx="1581120" cy="133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533520" y="3581280"/>
            <a:ext cx="1847880" cy="1667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2514600" y="4114800"/>
            <a:ext cx="1219320" cy="30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2381400" y="4533840"/>
            <a:ext cx="780840" cy="1733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3886200" y="3733920"/>
            <a:ext cx="3429000" cy="2469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>
            <a:off x="6095880" y="762120"/>
            <a:ext cx="2746440" cy="2243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5105520" y="5486400"/>
            <a:ext cx="373356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76720" y="990720"/>
            <a:ext cx="6094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838080"/>
            <a:ext cx="1828800" cy="39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 rule-file, rule-s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extensions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713AB-BD4B-4DB5-BC3F-74F93842A7D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emplate/shell, why parallel rule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command allows us to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from code replication, “cloning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ty - Maintenance and configuration independent of enhancement rule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839FC-B020-498F-A477-543AA41B40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x features used in “e” rules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option on ge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filefield function for retrieval meth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upport Server (w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fax accessibility via msfax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C functions for retrieval metho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connect, db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file, getdocidprop, putdocidp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ED524-D3DD-4F1B-8959-1E1CBC901E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archive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document properties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archiv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2A446-C2FF-46F7-8116-0061489D2B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BBF1B-474F-4E13-9758-3E251EF485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6334200" cy="4305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FB807-BC22-4528-B33A-83C7474673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20:43:10Z</dcterms:created>
  <dc:creator>Miguel J. Escobar</dc:creator>
  <dc:description/>
  <dc:language>en-US</dc:language>
  <cp:lastModifiedBy>Miguel J. Escobar</cp:lastModifiedBy>
  <dcterms:modified xsi:type="dcterms:W3CDTF">2007-12-11T19:51:05Z</dcterms:modified>
  <cp:revision>101</cp:revision>
  <dc:subject/>
  <dc:title>Slide 1</dc:title>
</cp:coreProperties>
</file>