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F35C-0957-45F0-AC8A-23C1A1C85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D261-0EF7-4CD7-92A6-7576C6DC1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6816-4114-4BAC-B8C1-F2E1D9280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027F-4BCC-4F82-973B-68DF0348CF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1EE2-83E0-4B9D-B628-71C1E7E169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D711-3660-4E32-9076-449A1A16B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1D90-ABF5-4CA8-946E-D8CD254D0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06DD-5F53-4026-888E-33AB0E487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4A35-ADE1-440C-B6F2-3CFD10142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13A4-DE2E-4534-9C7F-1DC2F33AF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913B-6509-4D50-A35A-1FD2DC6D6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6CCC-C2A4-4916-8E1F-9D6EC7470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7497-CCF0-4AE9-B89F-3C3FE959417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289C-FA18-4B74-A554-F0A1C7183A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47F3-82FD-491D-AA75-84374C02E2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6B27-201A-4EAE-BB26-7FE17C6BD7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E99C-3303-4AEE-A400-21E29B9D28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146D-00FB-4A9F-B77E-3EB870110E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8014-006E-4CAC-9606-F2DDFA6F87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53CE-D1A4-4004-A757-3B6A3BFC57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E83D-907E-4B4C-B656-511333E1DB0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1527-4589-48AD-902D-EBCC8C2EC8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8481-46E0-4FCC-884E-E174EC7BEC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78FB-8546-4BBC-A284-D5B7F7E942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FB36-B183-4100-822E-78FBEC585E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A29B-5F48-4C13-98C3-3EE182B8A3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1F3C-029A-4677-8A1F-4386C4A898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40FA-A747-4982-9501-178B0C3EA0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B586-4714-47A3-914E-AD163A3211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9B5F-05CB-4795-9664-5E01D18B8A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FD08-D0CF-4333-A878-1068C23E52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351D-95BD-4809-82FD-75C7ADF0B9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14C8-402F-45A5-B33E-DD3106CAE3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7FC4-CA81-4E85-8E1F-AFBA7C7C25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94F0-D65C-468E-8BBE-A42638B4B4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D18D-5FC8-4DA4-A128-0D9A6FC9A88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3A27-14F0-44F4-BC6D-8DDACF5079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B514-E675-44EE-A790-FE7E381634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A2C0-C0F8-4A65-A28D-39FEF062EA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1998-EA8C-42AE-98ED-1762B6F9A6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94FF-1A9A-41C2-88BB-40C306F9DB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C0A61-E019-4BDA-831A-6C91392BFE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EFE4-C693-4E07-B44A-2E73003721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014E-ADFA-4445-A64F-80F894F62E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7056-6CE3-4600-94F7-28441F2C4EB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82D2-B66F-4E16-A2A5-AD6ECF64214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DF7F-172C-4618-AE40-40969324477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1A29-E76C-404A-965C-8E9093020A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C246-7ECC-4F68-8174-5E79ED1C34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7769-873A-4735-B0B3-CF64B57AE1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4DC8-DC49-405F-8FD5-1C07D37C58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37A2-FDFA-4730-AEBC-5A98BE3A11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0-17T01:07:11Z</dcterms:modified>
  <cp:revision>100</cp:revision>
  <dc:subject/>
  <dc:title>Slide 1</dc:title>
</cp:coreProperties>
</file>